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658-FBC5-4398-A019-75A2363F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3EF-871A-43C6-87F5-438DDF49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4FB-1F6D-48BA-8CC2-8D095B8C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8C4-542B-479B-924C-DDD16959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560D-8616-4815-9F24-4086E5B8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F12-2F7F-491A-9861-43138BF8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30A3-74D3-4B0D-AFE0-63D5F568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C60A-304E-4940-86F8-8D5F4D93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206B-50F4-4E6D-8F2C-FDBA2EFA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C9B7-7431-40F2-B3FA-E35335B0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5CE2-AC67-4433-A881-D932511C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395-394A-41BF-8046-B2D15306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9021-98F6-4551-8F04-C25423B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287-C4F4-4B56-AC25-9E714F5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5861-E318-43D2-BF55-41DA9A3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8FEE-E52A-49BD-B343-A6405099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C48B-CDD5-40C5-B243-1564F861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608-25C0-4516-9419-F667C4B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461-3ACF-4AC2-8EA3-1629AE33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9E1-4EED-4A39-BB26-119E6E74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248-B06D-4F26-9867-A69E7DA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2C6-097A-45B0-B00B-B5B103B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94E-DC47-427D-9BC9-7B9D4B95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067-E30D-4A7C-B5A7-3A0391E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EF44-0879-4E3B-BDB7-260797FE2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F149-D545-4657-9FA0-46633036B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Connie Campbell</cp:lastModifiedBy>
  <dcterms:modified xsi:type="dcterms:W3CDTF">2002-05-31T21:44:21Z</dcterms:modified>
  <cp:revision>14</cp:revision>
  <dc:subject/>
  <dc:title>Jeopardy</dc:title>
</cp:coreProperties>
</file>